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ct" ContentType="image/x-pict"/>
  <Override PartName="/ppt/media/image11.png" ContentType="image/png"/>
  <Override PartName="/ppt/media/image6.pct" ContentType="image/x-pict"/>
  <Override PartName="/ppt/media/image17.pct" ContentType="image/x-pict"/>
  <Override PartName="/ppt/media/image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3.pct" ContentType="image/x-pict"/>
  <Override PartName="/ppt/media/image4.pct" ContentType="image/x-pict"/>
  <Override PartName="/ppt/media/image7.png" ContentType="image/png"/>
  <Override PartName="/ppt/media/image12.png" ContentType="image/png"/>
  <Override PartName="/ppt/media/image5.pct" ContentType="image/x-pict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BE7-8AEE-431A-B608-4AB38B02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B8E-B3DE-43E0-B08B-DBC92514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BAF-EFC8-47A6-AD08-070F7E5B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212-3C7D-4968-9DC3-C48A5F50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2EDA-3C41-499C-95F5-045B4178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280-C686-4752-952F-AAB58FB3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CF3D-ACA7-4B43-9BD7-C849E296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68F-5182-4A21-9ED2-91E800E3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51AA-E752-4AF7-B13F-F453A380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46F-C14A-4236-902A-6275985C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9C7-F82C-4E38-86E0-ED3074D7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056-16B1-4D4B-9306-340F46BD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4BAE-0287-467E-B661-39E349F01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 Involving Several Risk 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8381880" cy="1571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0" r="0" b="160405000"/>
          <a:stretch/>
        </p:blipFill>
        <p:spPr>
          <a:xfrm>
            <a:off x="380880" y="1447920"/>
            <a:ext cx="8458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3478320"/>
            <a:ext cx="8305920" cy="2590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8305920" cy="97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" y="990720"/>
            <a:ext cx="8305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3782880"/>
            <a:ext cx="8305920" cy="198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305920" cy="1752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305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3782880"/>
            <a:ext cx="830592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30592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30592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086600" y="3505320"/>
            <a:ext cx="16765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24742667"/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54280" y="2286000"/>
            <a:ext cx="564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Two Importan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Princip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21095667"/>
          <a:stretch/>
        </p:blipFill>
        <p:spPr>
          <a:xfrm>
            <a:off x="533520" y="749160"/>
            <a:ext cx="792468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9226"/>
          <a:stretch/>
        </p:blipFill>
        <p:spPr>
          <a:xfrm>
            <a:off x="685800" y="457200"/>
            <a:ext cx="807732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086600" y="5791320"/>
            <a:ext cx="15238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39862000"/>
          <a:stretch/>
        </p:blipFill>
        <p:spPr>
          <a:xfrm>
            <a:off x="457200" y="609480"/>
            <a:ext cx="8229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9646000"/>
          <a:stretch/>
        </p:blipFill>
        <p:spPr>
          <a:xfrm>
            <a:off x="609480" y="762120"/>
            <a:ext cx="800100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9247000"/>
          <a:stretch/>
        </p:blipFill>
        <p:spPr>
          <a:xfrm>
            <a:off x="380880" y="457200"/>
            <a:ext cx="830592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4549667"/>
          <a:stretch/>
        </p:blipFill>
        <p:spPr>
          <a:xfrm>
            <a:off x="609480" y="682560"/>
            <a:ext cx="80010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92468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10280" y="5943600"/>
            <a:ext cx="16765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8:25:01Z</dcterms:created>
  <dc:creator>david g. kleinbaum</dc:creator>
  <dc:description/>
  <dc:language>en-US</dc:language>
  <cp:lastModifiedBy>david g kleinbaum</cp:lastModifiedBy>
  <dcterms:modified xsi:type="dcterms:W3CDTF">2003-10-28T04:08:00Z</dcterms:modified>
  <cp:revision>22</cp:revision>
  <dc:subject/>
  <dc:title>PowerPoint Presentation</dc:title>
</cp:coreProperties>
</file>